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0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9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19C1-E3F0-4DA9-A748-3F257C714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F185-9E51-4E0F-9E3C-A58A0E8E6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65E7-9CA6-45FD-B6DB-F06918A86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2D6F-9225-430D-AADB-68BD98F5D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6C646-16FF-4480-9171-0AF38FB23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180EA-9AD1-4174-B564-434BB7273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F3F83-B1AF-49E8-9D04-36F8C2E5D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8EB31-5570-42DA-BF84-0B6CE0564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379FC-4DBF-404A-88FC-F951EC7E5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65D15-73E2-449D-AAD1-675A5E57B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2140C-42E6-4F05-9545-64A9FF7A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CA63-C335-43DD-A85A-CA9CDE157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E6FCB-758C-46A6-8429-C8B082E8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0E734-307C-428D-BE6F-414A6D72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6C09F-6CD4-4FE2-8105-9CAAF80DB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93BF2-60B8-4087-82E2-67DBFAC44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D5286-0952-4B0B-9592-846B5947B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E885-8219-4CB5-BF53-E00EEB2CD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7E57-A570-498A-87A4-2602422FF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9FC2-43BA-484C-AAE1-D96163B51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E635-A22F-4CEB-9CC0-16EB5E60E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76A7-8547-40B1-B7E0-1174A8D9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636A-BDD2-4D8B-9DC9-2A75AD53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AAC0-4F58-4C3F-B2BE-3AF1D76B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E69CA-7EF4-4ACA-9BEA-D061A40335C8}" type="slidenum">
              <a:rPr b="0" lang="fr-FR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5F4E2-E8BA-4337-A78D-59401CDCCA92}" type="slidenum">
              <a:rPr b="0" lang="fr-FR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6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w3perl.com/demo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09480" y="304920"/>
            <a:ext cx="8229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3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free logfile analy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Installation -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ctive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 Perl fir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Bin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S / Apache / Abyss server with default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onfiguration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ache / IIS / Abyss are ready to 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erver =&gt; give log files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tomize values using a web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lug-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 optional third-party software : PDF, Email, GeoIP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Config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reate a configuration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h, threshold, display, log format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f a web server is running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web administration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f no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use the online tool on w3perl 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edit manually the config.pl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redefined config fil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driva / Ubuntu / Deb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S / Apache / Aby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TP / Squid / Postfix / Ex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log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Web Administration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4197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Manage configuration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/ Modify / Clone / De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un remotely your st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w status with a progress 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View stats re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your reports on one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Update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638680" y="1523880"/>
            <a:ext cx="2386080" cy="19814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943600" y="4114800"/>
            <a:ext cx="1817640" cy="1981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752480" y="4114800"/>
            <a:ext cx="198144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Build a configuration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3886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ustomize disp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shold, Graphs, URL / Hostname mapping, language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og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hs, format, compression, split, file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ltering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s, URL, Countries, Directories, Robots to excl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rocessing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erse DNS, GeoIPCity, Domain stats, Scripts to 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utomatic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Online tool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114800" y="914400"/>
            <a:ext cx="4897440" cy="5145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762120" y="624852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apitals"/>
              </a:rPr>
              <a:t>Avoid to build configuration file manu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Fil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3962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obots de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reject spider vis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eferer sp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match your cou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ing a specific web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’s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irect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oid scanning private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erver’s status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H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lude list of h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114800" y="1219320"/>
            <a:ext cx="489744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Ru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3962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rom a web ad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 report in one c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‘Init’ to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rom command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-h for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 script : cron-w3pe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g –c to load a conf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g –a to 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g –e to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Windows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 /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all /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ph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many 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624852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apitals"/>
              </a:rPr>
              <a:t>Don’t mix web admin and command line r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733920" y="1066680"/>
            <a:ext cx="5257800" cy="48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4114800" cy="51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op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 :  date selection, pdf exportation, language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ure CSS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vigate through re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/When/Optional/Sessions/Documents/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Global sum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s / Pages / Files / Traffic / Users / Excl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cons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re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d when new reports are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191120" y="1066680"/>
            <a:ext cx="48211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Real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3962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vents monit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d every min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ts, Accesses, Traffic, Host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Graph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ity over the last 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 and integration can be changed in real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how latest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s / pages / scripts / files / traf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J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tables to sort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hosts to view page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114800" y="990720"/>
            <a:ext cx="49291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For each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3962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um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ts, Accesses, Traffic, Host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Graph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ity over 24 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w pea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omplete re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ries / Directories / Hosts / Pages / Filetype / Traffic / Session / Referer / Browsers / Scripts /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an be send via e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ml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DF as an attac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489744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Weekly / Monthly / Yea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4114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ame template as daily re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ts, Accesses, Traffic, Host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Graph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ts / Accesses versus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s versus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ull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restricted to the top 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xternal / Domain spl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nteractive graph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 to others time st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lay pop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an be send via e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ml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DF as an attac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191120" y="990720"/>
            <a:ext cx="482112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6ccff"/>
                </a:solidFill>
                <a:latin typeface="Arial"/>
              </a:rPr>
              <a:t>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4572000" cy="42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Works on Unix / Windows / M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Perl scri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Web / FTP / Squid / Email 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s log format can be added eas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Web Admin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to monitor your reports remot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DF / Email / CSV /RSS re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 reports in your mailbox each mo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ogfile parsing or page tag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server log or log created from a javascript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47960" y="1066680"/>
            <a:ext cx="4343400" cy="38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eal time st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w last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ession trac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 each user’s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etailed daily / weekly … re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reports available on a different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JAX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to sort table, to search for data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an be run on a remote h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 files can be retrieved, avoiding the need to compute on the server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Pages st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39625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ased on file ex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ml, php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Most popular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list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etailed pa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w hosts/date/occur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find easily a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mpare a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ch URL or page’s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ink to h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w hosts for each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Over the last few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phic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/ Decr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orted by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809880" y="838080"/>
            <a:ext cx="52340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Hosts st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39625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an exclude rob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a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Most popular h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list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or each h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of pages red and w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ts / Accesses / Traf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find easily a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mpare a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xplore by country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ry =&gt; Domain =&gt; Hosts =&gt; Host’s 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038480" y="762120"/>
            <a:ext cx="502776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28520" y="1917360"/>
            <a:ext cx="8868960" cy="3628080"/>
            <a:chOff x="128520" y="1917360"/>
            <a:chExt cx="8868960" cy="3628080"/>
          </a:xfrm>
        </p:grpSpPr>
        <p:cxnSp>
          <p:nvCxnSpPr>
            <p:cNvPr id="156" name="_s124966"/>
            <p:cNvCxnSpPr>
              <a:stCxn id="157" idx="0"/>
              <a:endCxn id="158" idx="2"/>
            </p:cNvCxnSpPr>
            <p:nvPr/>
          </p:nvCxnSpPr>
          <p:spPr>
            <a:xfrm flipV="1" rot="16200000">
              <a:off x="6368040" y="656640"/>
              <a:ext cx="168840" cy="3776760"/>
            </a:xfrm>
            <a:prstGeom prst="bentConnector3">
              <a:avLst>
                <a:gd name="adj1" fmla="val 50854"/>
              </a:avLst>
            </a:prstGeom>
            <a:ln w="28440">
              <a:solidFill>
                <a:srgbClr val="4b595b"/>
              </a:solidFill>
              <a:miter/>
            </a:ln>
          </p:spPr>
        </p:cxnSp>
        <p:cxnSp>
          <p:nvCxnSpPr>
            <p:cNvPr id="159" name="_s124964"/>
            <p:cNvCxnSpPr>
              <a:stCxn id="160" idx="1"/>
              <a:endCxn id="161" idx="2"/>
            </p:cNvCxnSpPr>
            <p:nvPr/>
          </p:nvCxnSpPr>
          <p:spPr>
            <a:xfrm rot="10800000">
              <a:off x="6852960" y="4753800"/>
              <a:ext cx="242640" cy="498240"/>
            </a:xfrm>
            <a:prstGeom prst="bentConnector2">
              <a:avLst/>
            </a:prstGeom>
            <a:ln w="28440">
              <a:solidFill>
                <a:srgbClr val="4b595b"/>
              </a:solidFill>
              <a:miter/>
            </a:ln>
          </p:spPr>
        </p:cxnSp>
        <p:cxnSp>
          <p:nvCxnSpPr>
            <p:cNvPr id="162" name="_s124962"/>
            <p:cNvCxnSpPr>
              <a:stCxn id="161" idx="1"/>
              <a:endCxn id="163" idx="2"/>
            </p:cNvCxnSpPr>
            <p:nvPr/>
          </p:nvCxnSpPr>
          <p:spPr>
            <a:xfrm rot="10800000">
              <a:off x="5798160" y="3958920"/>
              <a:ext cx="264240" cy="500040"/>
            </a:xfrm>
            <a:prstGeom prst="bentConnector2">
              <a:avLst/>
            </a:prstGeom>
            <a:ln w="28440">
              <a:solidFill>
                <a:srgbClr val="4b595b"/>
              </a:solidFill>
              <a:miter/>
            </a:ln>
          </p:spPr>
        </p:cxnSp>
        <p:cxnSp>
          <p:nvCxnSpPr>
            <p:cNvPr id="164" name="_s124960"/>
            <p:cNvCxnSpPr>
              <a:stCxn id="163" idx="0"/>
              <a:endCxn id="165" idx="2"/>
            </p:cNvCxnSpPr>
            <p:nvPr/>
          </p:nvCxnSpPr>
          <p:spPr>
            <a:xfrm flipH="1" flipV="1" rot="5400000">
              <a:off x="6184080" y="2797920"/>
              <a:ext cx="189360" cy="960840"/>
            </a:xfrm>
            <a:prstGeom prst="bentConnector3">
              <a:avLst>
                <a:gd name="adj1" fmla="val 53714"/>
              </a:avLst>
            </a:prstGeom>
            <a:ln w="28440">
              <a:solidFill>
                <a:srgbClr val="4b595b"/>
              </a:solidFill>
              <a:miter/>
            </a:ln>
          </p:spPr>
        </p:cxnSp>
        <p:cxnSp>
          <p:nvCxnSpPr>
            <p:cNvPr id="166" name="_s124958"/>
            <p:cNvCxnSpPr>
              <a:stCxn id="167" idx="1"/>
              <a:endCxn id="168" idx="2"/>
            </p:cNvCxnSpPr>
            <p:nvPr/>
          </p:nvCxnSpPr>
          <p:spPr>
            <a:xfrm rot="10800000">
              <a:off x="3477240" y="3958920"/>
              <a:ext cx="264240" cy="500040"/>
            </a:xfrm>
            <a:prstGeom prst="bentConnector2">
              <a:avLst/>
            </a:prstGeom>
            <a:ln w="28440">
              <a:solidFill>
                <a:srgbClr val="4b595b"/>
              </a:solidFill>
              <a:miter/>
            </a:ln>
          </p:spPr>
        </p:cxnSp>
        <p:cxnSp>
          <p:nvCxnSpPr>
            <p:cNvPr id="169" name="_s124956"/>
            <p:cNvCxnSpPr>
              <a:stCxn id="168" idx="0"/>
              <a:endCxn id="170" idx="2"/>
            </p:cNvCxnSpPr>
            <p:nvPr/>
          </p:nvCxnSpPr>
          <p:spPr>
            <a:xfrm flipH="1" flipV="1" rot="5400000">
              <a:off x="3844080" y="2817000"/>
              <a:ext cx="189360" cy="922680"/>
            </a:xfrm>
            <a:prstGeom prst="bentConnector3">
              <a:avLst>
                <a:gd name="adj1" fmla="val 53714"/>
              </a:avLst>
            </a:prstGeom>
            <a:ln w="28440">
              <a:solidFill>
                <a:srgbClr val="4b595b"/>
              </a:solidFill>
              <a:miter/>
            </a:ln>
          </p:spPr>
        </p:cxnSp>
        <p:cxnSp>
          <p:nvCxnSpPr>
            <p:cNvPr id="171" name="_s124954"/>
            <p:cNvCxnSpPr>
              <a:stCxn id="172" idx="1"/>
              <a:endCxn id="173" idx="2"/>
            </p:cNvCxnSpPr>
            <p:nvPr/>
          </p:nvCxnSpPr>
          <p:spPr>
            <a:xfrm rot="10800000">
              <a:off x="2210760" y="4753800"/>
              <a:ext cx="242640" cy="498240"/>
            </a:xfrm>
            <a:prstGeom prst="bentConnector2">
              <a:avLst/>
            </a:prstGeom>
            <a:ln w="28440">
              <a:solidFill>
                <a:srgbClr val="4b595b"/>
              </a:solidFill>
              <a:miter/>
            </a:ln>
          </p:spPr>
        </p:cxnSp>
        <p:cxnSp>
          <p:nvCxnSpPr>
            <p:cNvPr id="174" name="_s124952"/>
            <p:cNvCxnSpPr>
              <a:stCxn id="173" idx="1"/>
              <a:endCxn id="175" idx="2"/>
            </p:cNvCxnSpPr>
            <p:nvPr/>
          </p:nvCxnSpPr>
          <p:spPr>
            <a:xfrm rot="10800000">
              <a:off x="1155960" y="3958920"/>
              <a:ext cx="264240" cy="500040"/>
            </a:xfrm>
            <a:prstGeom prst="bentConnector2">
              <a:avLst/>
            </a:prstGeom>
            <a:ln w="28440">
              <a:solidFill>
                <a:srgbClr val="4b595b"/>
              </a:solidFill>
              <a:miter/>
            </a:ln>
          </p:spPr>
        </p:cxnSp>
        <p:cxnSp>
          <p:nvCxnSpPr>
            <p:cNvPr id="176" name="_s124947"/>
            <p:cNvCxnSpPr>
              <a:stCxn id="175" idx="0"/>
              <a:endCxn id="177" idx="2"/>
            </p:cNvCxnSpPr>
            <p:nvPr/>
          </p:nvCxnSpPr>
          <p:spPr>
            <a:xfrm flipH="1" flipV="1" rot="5400000">
              <a:off x="1541880" y="2798280"/>
              <a:ext cx="189360" cy="960480"/>
            </a:xfrm>
            <a:prstGeom prst="bentConnector3">
              <a:avLst>
                <a:gd name="adj1" fmla="val 53714"/>
              </a:avLst>
            </a:prstGeom>
            <a:ln w="28440">
              <a:solidFill>
                <a:srgbClr val="4b595b"/>
              </a:solidFill>
              <a:miter/>
            </a:ln>
          </p:spPr>
        </p:cxnSp>
        <p:cxnSp>
          <p:nvCxnSpPr>
            <p:cNvPr id="178" name="_s124942"/>
            <p:cNvCxnSpPr>
              <a:stCxn id="165" idx="0"/>
              <a:endCxn id="158" idx="2"/>
            </p:cNvCxnSpPr>
            <p:nvPr/>
          </p:nvCxnSpPr>
          <p:spPr>
            <a:xfrm flipV="1" rot="16200000">
              <a:off x="5577120" y="1447560"/>
              <a:ext cx="168840" cy="2194920"/>
            </a:xfrm>
            <a:prstGeom prst="bentConnector3">
              <a:avLst>
                <a:gd name="adj1" fmla="val 50854"/>
              </a:avLst>
            </a:prstGeom>
            <a:ln w="28440">
              <a:solidFill>
                <a:srgbClr val="4b595b"/>
              </a:solidFill>
              <a:miter/>
            </a:ln>
          </p:spPr>
        </p:cxnSp>
        <p:cxnSp>
          <p:nvCxnSpPr>
            <p:cNvPr id="179" name="_s124941"/>
            <p:cNvCxnSpPr>
              <a:stCxn id="170" idx="0"/>
              <a:endCxn id="158" idx="2"/>
            </p:cNvCxnSpPr>
            <p:nvPr/>
          </p:nvCxnSpPr>
          <p:spPr>
            <a:xfrm flipH="1" flipV="1" rot="5400000">
              <a:off x="4397760" y="2462400"/>
              <a:ext cx="168840" cy="165240"/>
            </a:xfrm>
            <a:prstGeom prst="bentConnector3">
              <a:avLst>
                <a:gd name="adj1" fmla="val 50854"/>
              </a:avLst>
            </a:prstGeom>
            <a:ln w="28440">
              <a:solidFill>
                <a:srgbClr val="4b595b"/>
              </a:solidFill>
              <a:miter/>
            </a:ln>
          </p:spPr>
        </p:cxnSp>
        <p:cxnSp>
          <p:nvCxnSpPr>
            <p:cNvPr id="180" name="_s124940"/>
            <p:cNvCxnSpPr>
              <a:stCxn id="177" idx="0"/>
              <a:endCxn id="158" idx="2"/>
            </p:cNvCxnSpPr>
            <p:nvPr/>
          </p:nvCxnSpPr>
          <p:spPr>
            <a:xfrm flipH="1" flipV="1" rot="5400000">
              <a:off x="3256200" y="1320840"/>
              <a:ext cx="168840" cy="2448360"/>
            </a:xfrm>
            <a:prstGeom prst="bentConnector3">
              <a:avLst>
                <a:gd name="adj1" fmla="val 50854"/>
              </a:avLst>
            </a:prstGeom>
            <a:ln w="28440">
              <a:solidFill>
                <a:srgbClr val="4b595b"/>
              </a:solidFill>
              <a:miter/>
            </a:ln>
          </p:spPr>
        </p:cxnSp>
        <p:sp>
          <p:nvSpPr>
            <p:cNvPr id="158" name="_s124936"/>
            <p:cNvSpPr/>
            <p:nvPr/>
          </p:nvSpPr>
          <p:spPr>
            <a:xfrm>
              <a:off x="3904560" y="1917360"/>
              <a:ext cx="1316520" cy="525240"/>
            </a:xfrm>
            <a:prstGeom prst="roundRect">
              <a:avLst>
                <a:gd name="adj" fmla="val 16667"/>
              </a:avLst>
            </a:prstGeom>
            <a:solidFill>
              <a:srgbClr val="d7edef"/>
            </a:solidFill>
            <a:ln w="38160">
              <a:solidFill>
                <a:srgbClr val="4b595b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3560" rIns="43560" tIns="21960" bIns="21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pitals"/>
                </a:rPr>
                <a:t>homepa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124937"/>
            <p:cNvSpPr/>
            <p:nvPr/>
          </p:nvSpPr>
          <p:spPr>
            <a:xfrm>
              <a:off x="1458360" y="2644920"/>
              <a:ext cx="1316520" cy="52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28440">
              <a:solidFill>
                <a:srgbClr val="4b595b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3560" rIns="43560" tIns="21960" bIns="21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pitals"/>
                </a:rPr>
                <a:t>Hos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124938"/>
            <p:cNvSpPr/>
            <p:nvPr/>
          </p:nvSpPr>
          <p:spPr>
            <a:xfrm>
              <a:off x="3741480" y="2644920"/>
              <a:ext cx="1316520" cy="52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28440">
              <a:solidFill>
                <a:srgbClr val="4b595b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3560" rIns="43560" tIns="21960" bIns="21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pitals"/>
                </a:rPr>
                <a:t>Pag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124939"/>
            <p:cNvSpPr/>
            <p:nvPr/>
          </p:nvSpPr>
          <p:spPr>
            <a:xfrm>
              <a:off x="6100920" y="2644920"/>
              <a:ext cx="1316520" cy="52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28440">
              <a:solidFill>
                <a:srgbClr val="4b595b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3560" rIns="43560" tIns="21960" bIns="21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pitals"/>
                </a:rPr>
                <a:t>Countr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124946"/>
            <p:cNvSpPr/>
            <p:nvPr/>
          </p:nvSpPr>
          <p:spPr>
            <a:xfrm>
              <a:off x="128520" y="3372840"/>
              <a:ext cx="2057040" cy="586800"/>
            </a:xfrm>
            <a:prstGeom prst="roundRect">
              <a:avLst>
                <a:gd name="adj" fmla="val 16667"/>
              </a:avLst>
            </a:prstGeom>
            <a:solidFill>
              <a:srgbClr val="adcfd2"/>
            </a:solidFill>
            <a:ln w="3240">
              <a:solidFill>
                <a:srgbClr val="4b595b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4640" rIns="44640" tIns="22320" bIns="22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pitals"/>
                </a:rPr>
                <a:t>Hosts for each coun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124951"/>
            <p:cNvSpPr/>
            <p:nvPr/>
          </p:nvSpPr>
          <p:spPr>
            <a:xfrm>
              <a:off x="1420560" y="4161960"/>
              <a:ext cx="1578960" cy="592200"/>
            </a:xfrm>
            <a:prstGeom prst="roundRect">
              <a:avLst>
                <a:gd name="adj" fmla="val 16667"/>
              </a:avLst>
            </a:prstGeom>
            <a:solidFill>
              <a:srgbClr val="9fbfc1"/>
            </a:solidFill>
            <a:ln w="3240">
              <a:solidFill>
                <a:srgbClr val="4b595b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4640" rIns="44640" tIns="22320" bIns="22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apitals"/>
                </a:rPr>
                <a:t>Hosts for each domai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124953"/>
            <p:cNvSpPr/>
            <p:nvPr/>
          </p:nvSpPr>
          <p:spPr>
            <a:xfrm>
              <a:off x="2473560" y="4956840"/>
              <a:ext cx="1632240" cy="588600"/>
            </a:xfrm>
            <a:prstGeom prst="roundRect">
              <a:avLst>
                <a:gd name="adj" fmla="val 16667"/>
              </a:avLst>
            </a:prstGeom>
            <a:solidFill>
              <a:srgbClr val="d7edef"/>
            </a:solidFill>
            <a:ln w="38160">
              <a:solidFill>
                <a:srgbClr val="4b595b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4640" rIns="44640" tIns="22320" bIns="22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pitals"/>
                </a:rPr>
                <a:t>Pages read for each hos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124955"/>
            <p:cNvSpPr/>
            <p:nvPr/>
          </p:nvSpPr>
          <p:spPr>
            <a:xfrm>
              <a:off x="2449440" y="3372840"/>
              <a:ext cx="2057040" cy="586800"/>
            </a:xfrm>
            <a:prstGeom prst="roundRect">
              <a:avLst>
                <a:gd name="adj" fmla="val 16667"/>
              </a:avLst>
            </a:prstGeom>
            <a:solidFill>
              <a:srgbClr val="adcfd2"/>
            </a:solidFill>
            <a:ln w="3240">
              <a:solidFill>
                <a:srgbClr val="4b595b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4640" rIns="44640" tIns="22320" bIns="22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pitals"/>
                </a:rPr>
                <a:t>Pages by director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124957"/>
            <p:cNvSpPr/>
            <p:nvPr/>
          </p:nvSpPr>
          <p:spPr>
            <a:xfrm>
              <a:off x="3741480" y="4161960"/>
              <a:ext cx="1578960" cy="592200"/>
            </a:xfrm>
            <a:prstGeom prst="roundRect">
              <a:avLst>
                <a:gd name="adj" fmla="val 16667"/>
              </a:avLst>
            </a:prstGeom>
            <a:solidFill>
              <a:srgbClr val="9fbfc1"/>
            </a:solidFill>
            <a:ln w="3240">
              <a:solidFill>
                <a:srgbClr val="4b595b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4640" rIns="44640" tIns="22320" bIns="22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apitals"/>
                </a:rPr>
                <a:t>Hosts for each pag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124959"/>
            <p:cNvSpPr/>
            <p:nvPr/>
          </p:nvSpPr>
          <p:spPr>
            <a:xfrm>
              <a:off x="4770360" y="3372840"/>
              <a:ext cx="2057040" cy="586800"/>
            </a:xfrm>
            <a:prstGeom prst="roundRect">
              <a:avLst>
                <a:gd name="adj" fmla="val 16667"/>
              </a:avLst>
            </a:prstGeom>
            <a:solidFill>
              <a:srgbClr val="adcfd2"/>
            </a:solidFill>
            <a:ln w="3240">
              <a:solidFill>
                <a:srgbClr val="4b595b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4640" rIns="44640" tIns="22320" bIns="22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pitals"/>
                </a:rPr>
                <a:t>Geographic are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_s124961"/>
            <p:cNvSpPr/>
            <p:nvPr/>
          </p:nvSpPr>
          <p:spPr>
            <a:xfrm>
              <a:off x="6062400" y="4161960"/>
              <a:ext cx="1578960" cy="592200"/>
            </a:xfrm>
            <a:prstGeom prst="roundRect">
              <a:avLst>
                <a:gd name="adj" fmla="val 16667"/>
              </a:avLst>
            </a:prstGeom>
            <a:solidFill>
              <a:srgbClr val="9fbfc1"/>
            </a:solidFill>
            <a:ln w="3240">
              <a:solidFill>
                <a:srgbClr val="4b595b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4640" rIns="44640" tIns="22320" bIns="22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apitals"/>
                </a:rPr>
                <a:t>Cities for each count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124963"/>
            <p:cNvSpPr/>
            <p:nvPr/>
          </p:nvSpPr>
          <p:spPr>
            <a:xfrm>
              <a:off x="7115400" y="4956840"/>
              <a:ext cx="1632240" cy="588600"/>
            </a:xfrm>
            <a:prstGeom prst="roundRect">
              <a:avLst>
                <a:gd name="adj" fmla="val 16667"/>
              </a:avLst>
            </a:prstGeom>
            <a:solidFill>
              <a:srgbClr val="d7edef"/>
            </a:solidFill>
            <a:ln w="38160">
              <a:solidFill>
                <a:srgbClr val="4b595b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4640" rIns="44640" tIns="22320" bIns="22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pitals"/>
                </a:rPr>
                <a:t>Hosts for each c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124965"/>
            <p:cNvSpPr/>
            <p:nvPr/>
          </p:nvSpPr>
          <p:spPr>
            <a:xfrm>
              <a:off x="7680960" y="2644920"/>
              <a:ext cx="1316520" cy="52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28440">
              <a:solidFill>
                <a:srgbClr val="4b595b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4640" rIns="44640" tIns="22320" bIns="22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pitals"/>
                </a:rPr>
                <a:t>Citi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Navi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5410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Using plug-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IP to get country stats from IP log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LiteCity to get cities st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dding a javascrip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t 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reen resolution / Color depth / Java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irect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ts / Accesses / Traffic for each pa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le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traffic by file extension (find easily unsolicited fi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010280" y="4952880"/>
            <a:ext cx="1632240" cy="16891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380880" y="4876920"/>
            <a:ext cx="1668600" cy="16761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3276720" y="4952880"/>
            <a:ext cx="2743200" cy="17128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5486400" y="990720"/>
            <a:ext cx="3505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Osaka"/>
              </a:rPr>
              <a:t>R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Osaka"/>
              </a:rPr>
              <a:t>Who is reading your fl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Osaka"/>
              </a:rPr>
              <a:t>Status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Osaka"/>
              </a:rPr>
              <a:t>Check client / server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Osaka"/>
              </a:rPr>
              <a:t>Search en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Osaka"/>
              </a:rPr>
              <a:t>Which keyword has been used to reach your websit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Osaka"/>
              </a:rPr>
              <a:t>Refer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Osaka"/>
              </a:rPr>
              <a:t>Where does people come from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Session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4496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nternet is an endless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elim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Host = Visit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IP shared by different peop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x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uter ro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person with different 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HCP le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different computer (home/wor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etting a Time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ually 20 minutes without requ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ession st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ck user’s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038480" y="1066680"/>
            <a:ext cx="499752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Follow user’s 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3962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or each s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 / Date / Referer / Ac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w pages / Time sp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/ Ending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ide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many session for each 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long they st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ession 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t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age reading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popular page (avoid page jum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ession hourly and daily hist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962520" y="1066680"/>
            <a:ext cx="50274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Squid / FTP / M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q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ve and CLF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proxy stats (TCP status code, Traffic, elapsed ti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ination sorted by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s stats if authentified users f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TP, xferlog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s stats (files downloaded, traffic, from, d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rnal / Local Top ten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ming or Outgoing re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read Exim / Sendmail / Postf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ails list per users / domain /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 / External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24080" y="99072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a97bd"/>
                </a:solidFill>
                <a:latin typeface="Capitals"/>
              </a:rPr>
              <a:t>Add some extra re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Intra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38102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an map users to 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 the resolv_users.cs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ocal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r expression to map domain 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meter to exclude external h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Works with secure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809880" y="1447920"/>
            <a:ext cx="5181840" cy="51814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28600" y="5029200"/>
            <a:ext cx="335268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97bd"/>
                </a:solidFill>
                <a:latin typeface="Capitals"/>
              </a:rPr>
              <a:t>Squid report showing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a97bd"/>
              </a:buClr>
              <a:buFont typeface="Capital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97bd"/>
                </a:solidFill>
                <a:latin typeface="Capitals"/>
              </a:rPr>
              <a:t> </a:t>
            </a:r>
            <a:r>
              <a:rPr b="0" lang="en-US" sz="1400" spc="-1" strike="noStrike">
                <a:solidFill>
                  <a:srgbClr val="4a97bd"/>
                </a:solidFill>
                <a:latin typeface="Capitals"/>
              </a:rPr>
              <a:t>Daily destination : which websites have been se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a97bd"/>
              </a:buClr>
              <a:buFont typeface="Capital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97bd"/>
                </a:solidFill>
                <a:latin typeface="Capitals"/>
              </a:rPr>
              <a:t> </a:t>
            </a:r>
            <a:r>
              <a:rPr b="0" lang="en-US" sz="1400" spc="-1" strike="noStrike">
                <a:solidFill>
                  <a:srgbClr val="4a97bd"/>
                </a:solidFill>
                <a:latin typeface="Capitals"/>
              </a:rPr>
              <a:t>List of hosts for each destination : occurrence and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Futur develop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More logfile format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eFTP, Domino, Firewall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Web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More AJAX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grap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More administration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r spammer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More tools for data-m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More mail re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m detection, bounced emails,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mprove Windows insta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ncrease processing sp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Others pack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WSt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ely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user’s path tr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na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est in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ck of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Webal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small updates from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WFF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alizer f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Vis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line 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257800" y="10666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a97bd"/>
                </a:solidFill>
                <a:latin typeface="Capitals"/>
              </a:rPr>
              <a:t>Page tag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62120" y="10666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a97bd"/>
                </a:solidFill>
                <a:latin typeface="Capitals"/>
              </a:rPr>
              <a:t>Logfile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48320" y="1600200"/>
            <a:ext cx="38862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Osaka"/>
              </a:rPr>
              <a:t>Piw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Osaka"/>
              </a:rPr>
              <a:t>Require a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Osaka"/>
              </a:rPr>
              <a:t>Javascript code to incl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Osaka"/>
              </a:rPr>
              <a:t>BBCl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Osaka"/>
              </a:rPr>
              <a:t>PHP tag to incl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Osaka"/>
              </a:rPr>
              <a:t>CrawTr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Osaka"/>
              </a:rPr>
              <a:t>Crawler st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Osaka"/>
              </a:rPr>
              <a:t>Require a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Osaka"/>
              </a:rPr>
              <a:t>Google Analy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Osaka"/>
              </a:rPr>
              <a:t>No access to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Osaka"/>
              </a:rPr>
              <a:t>Pop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Monitoring techn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party tr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traffic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y on javascr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scripts to run or 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caching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add extra data as screen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log on javascript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n’t require log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114300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a97bd"/>
                </a:solidFill>
                <a:latin typeface="Capitals"/>
              </a:rPr>
              <a:t>Page tag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114300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a97bd"/>
                </a:solidFill>
                <a:latin typeface="Capitals"/>
              </a:rPr>
              <a:t>Logfile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58672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apitals"/>
              </a:rPr>
              <a:t>W3Perl can be used with both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48320" y="1752480"/>
            <a:ext cx="3962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Con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Osaka"/>
              </a:rPr>
              <a:t>CPU / Memory hung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Osaka"/>
              </a:rPr>
              <a:t>Need to install a 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Pro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Osaka"/>
              </a:rPr>
              <a:t>No change in your web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Osaka"/>
              </a:rPr>
              <a:t>Archive your logfile to retrieve data l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Osaka"/>
              </a:rPr>
              <a:t>Spider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Osaka"/>
              </a:rPr>
              <a:t>Fine t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That’s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W3Perl home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w3per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ew release every 3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emo 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w3perl.com/demo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ch by your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eedbacks wel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Help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Mailing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new release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omment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them to domisse@w3per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Log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7238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hoose carefully your logfile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d to get browsers/OS/referer st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erse DNS to get country stats (w3perl can do it als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Hits vs Ac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otation /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commendatio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ache : move to combined EC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S : use W3C or add extra fields to II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reate your own logfile if not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 the Page Tagging package fir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LF logfile forma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696080" y="2590920"/>
            <a:ext cx="752760" cy="1962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952880" y="2362320"/>
            <a:ext cx="2190960" cy="7426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85800" y="5562720"/>
            <a:ext cx="77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apitals"/>
              </a:rPr>
              <a:t>%host %null %login %date %hourshift %method %page %protocol %status %requetes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04920" y="838080"/>
            <a:ext cx="8076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295280" y="3962520"/>
            <a:ext cx="6096240" cy="2762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09480" y="3048120"/>
            <a:ext cx="762012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pitals"/>
              </a:rPr>
              <a:t>Your can define your own format using predefined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576d4"/>
                </a:solidFill>
                <a:latin typeface="Capitals"/>
              </a:rPr>
              <a:t>=&gt; %host, %date, %page, %protocol, %status, %requetesize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200"/>
            <a:ext cx="77724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Logfile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69343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Web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LF, ECLF, W3C, II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quid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ative, C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TP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FTP, xfer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ail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im / Postfix / Send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Data m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5867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Main st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, Hosts, Directories, File, Trafic, Country, City, Scripts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1633320" cy="16984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438280" y="2971800"/>
            <a:ext cx="6324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Osaka"/>
              </a:rPr>
              <a:t>Time st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Osaka"/>
              </a:rPr>
              <a:t>Real time, hours, days, weeks, months and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4648320"/>
            <a:ext cx="56390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Osaka"/>
              </a:rPr>
              <a:t>Additional st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Osaka"/>
              </a:rPr>
              <a:t>Referer, Browsers, OS, Errors, Sessions, RSS, URL mapping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629400" y="1219320"/>
            <a:ext cx="1973160" cy="19810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477120" y="4343400"/>
            <a:ext cx="163332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Using W3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8377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nsta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requirements (Perl and Fly/Flydra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e Windows Binaries / Linux Packages or Tarb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tomize your stats : one configuration per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your config from a Web administration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unning the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ter script : cron-w3perl.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a to initial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e to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d &lt;days&gt; to compute the last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ly via the Web administration interface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ily via a cront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 configuration via the –c fl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Watch the results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Instal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76197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Un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PM / Debian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b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ipts -&gt; /cgi-bin/w3perl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s -&gt; /htdocs/w3perl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Windows binaries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(include predefined configuration fil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a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y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Logfile access is not mand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javascript tag to be inserted in your web pages can create logfiles for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lug-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DF, Email, GeoIP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624852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apitals"/>
              </a:rPr>
              <a:t>Avoid installing the package on a running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Installation - Un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PM / Debian 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y or Flydraw package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ar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 the fly or flydraw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ract w3perl package in your www document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t the install.pl 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paths according to your system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l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GI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3Perl package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install.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web administration interface to build a config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lug-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 optional third-party software : PDF, Email, GeoIP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6T20:56:40Z</dcterms:created>
  <dc:creator>Laurent Domisse</dc:creator>
  <dc:description/>
  <cp:keywords>Logfile analyzer</cp:keywords>
  <dc:language>en-US</dc:language>
  <cp:lastModifiedBy>Terapix</cp:lastModifiedBy>
  <dcterms:modified xsi:type="dcterms:W3CDTF">2009-09-15T20:37:41Z</dcterms:modified>
  <cp:revision>215</cp:revision>
  <dc:subject/>
  <dc:title>W3Perl</dc:title>
</cp:coreProperties>
</file>