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F26-D1E2-4DF7-A62C-7CE3637A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58E-3924-470A-96E6-CAEAB338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524-4C61-4334-8E10-A030AB31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AC5-17FF-4F45-9352-FDBBF152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9989-21C2-4702-BD88-14330FBA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C8DD-6904-4E4E-A203-9D6F68E3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5449-4102-47FF-99B1-F398074D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545-C4A5-4DA5-8E82-D058C253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7A71-E327-46E3-9DDB-98266922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A4B-A1EF-4B1D-9426-274EBFA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AB79-69AD-48C2-AA48-54A14901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593-F997-421C-8825-9358CF01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E520-9D71-4827-BDA7-397DE1A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A9B0-6786-45A5-9D8F-D1FE897E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A0C-70B9-450A-AFA1-7249058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4433-DBB0-4B33-A484-D8481499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C6FA-C2FA-4C8C-A26E-AECC1E60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31B-CF1D-4101-AFD4-3057DC8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DF4-3CCD-4019-86F8-7D87C4D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BDE-81A0-4099-A391-1032B75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191-44D8-4E31-8E0F-C9F4341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BFB-26EB-4F18-81FD-214B526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537-67D3-40E5-8DCE-1A1A525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2CB-78A2-4784-946E-566415E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1DD-9964-46B0-B65F-880E7A1C5BB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74D-C4C9-468D-9862-6C31DE37224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perl.com/demo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04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3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ree logfile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 -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ve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Perl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/ Apache / Abyss server with defaul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/ IIS / Abyss are ready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 =&gt; give log file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values using 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ptional third-party software : 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a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, threshold, display, log form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a web server is runn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administ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no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online tool on w3perl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dit manually the config.p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defined config fi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riva / Ubuntu / De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/ Apache / Aby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/ Squid / Postfix / Ex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g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eb Administratio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nage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/ Modify / Clone /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n remotely your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status with a progres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ew stats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your reports on on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pdat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2386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1817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1981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ild a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stomiz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, Graphs, URL / Hostname mapping, languag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, format, compression, split,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ter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, URL, Countries, Directories, Robots to ex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DNS, GeoIPCity, Domain stats, Scripts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utomatic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line tool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4897440" cy="5145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6248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pitals"/>
              </a:rPr>
              <a:t>Avoid to build configuration file ma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obots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ject spider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ferer s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tch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a specific web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scanning privat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er’s 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e list of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897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om a web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port in on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‘Init’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om comman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-h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cript : cron-w3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c to load a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a to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e to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indows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/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/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ny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248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pitals"/>
              </a:rPr>
              <a:t>Don’t mix web admin and command line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52578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114800" cy="51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:  date selection, pdf exportation, languag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re CSS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 through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/When/Optional/Sessions/Documents/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lobal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/ Pages / Files / Traffic / Users / Ex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con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when new report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482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every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ver the last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and integration can be changed in re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ow lates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/ pages / scripts / files /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ables to sor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hosts to view pag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929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eac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ver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le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ies / Directories / Hosts / Pages / Filetype / Traffic / Session / Referer / Browsers / Scripts /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send via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as an attac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897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eekly / Monthly / Y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ame template as daily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versu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versu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l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stricted to the top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ternal / Domain sp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activ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others time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pop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send via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as an attac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821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c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5720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 on Unix / Windows /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erl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/ FTP / Squid / Email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log format can be add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dm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o monitor your reports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DF / Email / CSV /RSS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ports in your mailbox each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file parsing or pag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erver log or log created from a 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4343400" cy="38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 time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last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each user’s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ailed daily / weekly …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reports available on a differen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o sort table, to search for dat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run on a remot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 can be retrieved, avoiding the need to compute on the server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ages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ed on fil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, php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st popular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lis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ailed p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hosts/date/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easily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ar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URL or page’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ink to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hos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 the last few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/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rted by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234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sts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exclude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st popular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lis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 each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pages red and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/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easily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ar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lore by countr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=&gt; Domain =&gt; Hosts =&gt; Host’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5027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28520" y="1917360"/>
            <a:ext cx="8868960" cy="3628080"/>
            <a:chOff x="128520" y="1917360"/>
            <a:chExt cx="8868960" cy="3628080"/>
          </a:xfrm>
        </p:grpSpPr>
        <p:cxnSp>
          <p:nvCxnSpPr>
            <p:cNvPr id="156" name="_s124966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6368040" y="656640"/>
              <a:ext cx="168840" cy="377676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59" name="_s124964"/>
            <p:cNvCxnSpPr>
              <a:stCxn id="160" idx="1"/>
              <a:endCxn id="161" idx="2"/>
            </p:cNvCxnSpPr>
            <p:nvPr/>
          </p:nvCxnSpPr>
          <p:spPr>
            <a:xfrm rot="10800000">
              <a:off x="6852960" y="4753800"/>
              <a:ext cx="242640" cy="4982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2" name="_s124962"/>
            <p:cNvCxnSpPr>
              <a:stCxn id="161" idx="1"/>
              <a:endCxn id="163" idx="2"/>
            </p:cNvCxnSpPr>
            <p:nvPr/>
          </p:nvCxnSpPr>
          <p:spPr>
            <a:xfrm rot="10800000">
              <a:off x="579816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4" name="_s124960"/>
            <p:cNvCxnSpPr>
              <a:stCxn id="163" idx="0"/>
              <a:endCxn id="165" idx="2"/>
            </p:cNvCxnSpPr>
            <p:nvPr/>
          </p:nvCxnSpPr>
          <p:spPr>
            <a:xfrm flipH="1" flipV="1" rot="5400000">
              <a:off x="6184080" y="2797920"/>
              <a:ext cx="189360" cy="96084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6" name="_s124958"/>
            <p:cNvCxnSpPr>
              <a:stCxn id="167" idx="1"/>
              <a:endCxn id="168" idx="2"/>
            </p:cNvCxnSpPr>
            <p:nvPr/>
          </p:nvCxnSpPr>
          <p:spPr>
            <a:xfrm rot="10800000">
              <a:off x="347724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9" name="_s124956"/>
            <p:cNvCxnSpPr>
              <a:stCxn id="168" idx="0"/>
              <a:endCxn id="170" idx="2"/>
            </p:cNvCxnSpPr>
            <p:nvPr/>
          </p:nvCxnSpPr>
          <p:spPr>
            <a:xfrm flipH="1" flipV="1" rot="5400000">
              <a:off x="3844080" y="2817000"/>
              <a:ext cx="189360" cy="92268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1" name="_s124954"/>
            <p:cNvCxnSpPr>
              <a:stCxn id="172" idx="1"/>
              <a:endCxn id="173" idx="2"/>
            </p:cNvCxnSpPr>
            <p:nvPr/>
          </p:nvCxnSpPr>
          <p:spPr>
            <a:xfrm rot="10800000">
              <a:off x="2210760" y="4753800"/>
              <a:ext cx="242640" cy="4982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4" name="_s124952"/>
            <p:cNvCxnSpPr>
              <a:stCxn id="173" idx="1"/>
              <a:endCxn id="175" idx="2"/>
            </p:cNvCxnSpPr>
            <p:nvPr/>
          </p:nvCxnSpPr>
          <p:spPr>
            <a:xfrm rot="10800000">
              <a:off x="115596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6" name="_s124947"/>
            <p:cNvCxnSpPr>
              <a:stCxn id="175" idx="0"/>
              <a:endCxn id="177" idx="2"/>
            </p:cNvCxnSpPr>
            <p:nvPr/>
          </p:nvCxnSpPr>
          <p:spPr>
            <a:xfrm flipH="1" flipV="1" rot="5400000">
              <a:off x="1541880" y="2798280"/>
              <a:ext cx="189360" cy="96048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8" name="_s124942"/>
            <p:cNvCxnSpPr>
              <a:stCxn id="165" idx="0"/>
              <a:endCxn id="158" idx="2"/>
            </p:cNvCxnSpPr>
            <p:nvPr/>
          </p:nvCxnSpPr>
          <p:spPr>
            <a:xfrm flipV="1" rot="16200000">
              <a:off x="5577120" y="1447560"/>
              <a:ext cx="168840" cy="219492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9" name="_s124941"/>
            <p:cNvCxnSpPr>
              <a:stCxn id="170" idx="0"/>
              <a:endCxn id="158" idx="2"/>
            </p:cNvCxnSpPr>
            <p:nvPr/>
          </p:nvCxnSpPr>
          <p:spPr>
            <a:xfrm flipH="1" flipV="1" rot="5400000">
              <a:off x="4397760" y="2462400"/>
              <a:ext cx="168840" cy="16524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80" name="_s124940"/>
            <p:cNvCxnSpPr>
              <a:stCxn id="177" idx="0"/>
              <a:endCxn id="158" idx="2"/>
            </p:cNvCxnSpPr>
            <p:nvPr/>
          </p:nvCxnSpPr>
          <p:spPr>
            <a:xfrm flipH="1" flipV="1" rot="5400000">
              <a:off x="3256200" y="1320840"/>
              <a:ext cx="168840" cy="244836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158" name="_s124936"/>
            <p:cNvSpPr/>
            <p:nvPr/>
          </p:nvSpPr>
          <p:spPr>
            <a:xfrm>
              <a:off x="3904560" y="191736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home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4937"/>
            <p:cNvSpPr/>
            <p:nvPr/>
          </p:nvSpPr>
          <p:spPr>
            <a:xfrm>
              <a:off x="145836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Ho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24938"/>
            <p:cNvSpPr/>
            <p:nvPr/>
          </p:nvSpPr>
          <p:spPr>
            <a:xfrm>
              <a:off x="374148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Pa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4939"/>
            <p:cNvSpPr/>
            <p:nvPr/>
          </p:nvSpPr>
          <p:spPr>
            <a:xfrm>
              <a:off x="610092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4946"/>
            <p:cNvSpPr/>
            <p:nvPr/>
          </p:nvSpPr>
          <p:spPr>
            <a:xfrm>
              <a:off x="12852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Hosts for each cou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24951"/>
            <p:cNvSpPr/>
            <p:nvPr/>
          </p:nvSpPr>
          <p:spPr>
            <a:xfrm>
              <a:off x="142056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Hosts for each doma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4953"/>
            <p:cNvSpPr/>
            <p:nvPr/>
          </p:nvSpPr>
          <p:spPr>
            <a:xfrm>
              <a:off x="2473560" y="4956840"/>
              <a:ext cx="1632240" cy="58860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pitals"/>
                </a:rPr>
                <a:t>Pages read for each h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4955"/>
            <p:cNvSpPr/>
            <p:nvPr/>
          </p:nvSpPr>
          <p:spPr>
            <a:xfrm>
              <a:off x="244944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Pages by directo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24957"/>
            <p:cNvSpPr/>
            <p:nvPr/>
          </p:nvSpPr>
          <p:spPr>
            <a:xfrm>
              <a:off x="374148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Hosts for each p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4959"/>
            <p:cNvSpPr/>
            <p:nvPr/>
          </p:nvSpPr>
          <p:spPr>
            <a:xfrm>
              <a:off x="477036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Geographic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4961"/>
            <p:cNvSpPr/>
            <p:nvPr/>
          </p:nvSpPr>
          <p:spPr>
            <a:xfrm>
              <a:off x="606240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Cities for each cou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24963"/>
            <p:cNvSpPr/>
            <p:nvPr/>
          </p:nvSpPr>
          <p:spPr>
            <a:xfrm>
              <a:off x="7115400" y="4956840"/>
              <a:ext cx="1632240" cy="58860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pitals"/>
                </a:rPr>
                <a:t>Hosts for each c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4965"/>
            <p:cNvSpPr/>
            <p:nvPr/>
          </p:nvSpPr>
          <p:spPr>
            <a:xfrm>
              <a:off x="768096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pitals"/>
                </a:rPr>
                <a:t>Citi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10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ing plug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IP to get country stats from IP log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iteCity to get cities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dding a javascrip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resolution / Color depth / Java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/ Traffic for each pa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raffic by file extension (find easily unsolicited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010280" y="4952880"/>
            <a:ext cx="1632240" cy="168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1668600" cy="1676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4952880"/>
            <a:ext cx="2743200" cy="1712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486400" y="990720"/>
            <a:ext cx="3505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o is reading your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heck client / serve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ich keyword has been used to reach your websi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Refe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ere does people come fro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s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net is an endless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st = Visi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P shared by different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erson with different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different computer (home/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tting a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20 minutes withou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user’s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9975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llow user’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 each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/ Date / Referer /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ages / Time sp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/ Ending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ession for each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they st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rea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opular page (avoid page j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hourly and daily 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50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quid / FTP /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and CL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proxy stats (TCP status code, Traffic, elapsed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sorted b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stats if authentified user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TP, xferlog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stats (files downloaded, traffic, from,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/ Local Top ten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or Outgoing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ad Exim / Sendmail / Post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s list per users / domain /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/ Extern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990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Add some extra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3810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map users t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the resolv_users.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 to map domain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to exclude external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 with secur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5029200"/>
            <a:ext cx="335268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97bd"/>
                </a:solidFill>
                <a:latin typeface="Capitals"/>
              </a:rPr>
              <a:t>Squid report show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a97bd"/>
              </a:buClr>
              <a:buFont typeface="Capital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 </a:t>
            </a: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Daily destination : which websites have been s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a97bd"/>
              </a:buClr>
              <a:buFont typeface="Capital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 </a:t>
            </a: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List of hosts for each destination : occurrence and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utur develop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logfile forma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FTP, Domino, Firewal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AJA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administ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r spamm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tools for data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mai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 detection, bounced emails,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prove Windows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crease processing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thers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W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r’s path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mall updates from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WF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alizer 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s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in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1066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Page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066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Logfi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Piw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quir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Javascript code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BBC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HP tag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Craw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rawl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quir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Google Analy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o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nitoring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raf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y on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cripts to run or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ach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 extra data as screen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og on javascrip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quire log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143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Page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143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Logfi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pitals"/>
              </a:rPr>
              <a:t>W3Perl can be used with bo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752480"/>
            <a:ext cx="396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C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PU / Memory hung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eed to install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r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o change in your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Archive your logfile to retrieve data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Spid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Fine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at’s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3Perl home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3per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w release every 3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mo 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perl.com/dem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by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edback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lp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new releas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en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hem to domisse@w3per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hoose carefully your log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to get browsers/OS/referer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DNS to get country stats (w3perl can do it 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ts vs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tation /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ommend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: move to combined EC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: use W3C or add extra fields to II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your own logfile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the Page Tagging package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F logfile form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96080" y="2590920"/>
            <a:ext cx="752760" cy="196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2190960" cy="74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5627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apitals"/>
              </a:rPr>
              <a:t>%host %null %login %date %hourshift %method %page %protocol %status %requet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8380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6096240" cy="27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3048120"/>
            <a:ext cx="76201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pitals"/>
              </a:rPr>
              <a:t>Your can define your own format using predefin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76d4"/>
                </a:solidFill>
                <a:latin typeface="Capitals"/>
              </a:rPr>
              <a:t>=&gt; %host, %date, %page, %protocol, %status, %requetesiz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fil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6934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F, ECLF, W3C, I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quid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ve, C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TP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TP, xfer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il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m / Postfix / 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in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, Hosts, Directories, File, Trafic, Country, City, Scripts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1633320" cy="169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2971800"/>
            <a:ext cx="6324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Time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al time, hours, days, weeks, months and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6483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Additional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ferer, Browsers, OS, Errors, Sessions, RSS, URL mappi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4343400"/>
            <a:ext cx="16333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sing W3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requirements (Perl and Fly/Flydr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indows Binaries / Linux Packages or Tar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your stats : one configuration pe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your config from a Web administ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ning th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script : cron-w3perl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 to 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 to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 &lt;days&gt; to compute the last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ly via the Web administration interfac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via a cron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configuration via the –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atch the resul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M / Debia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-&gt; /cgi-bin/w3per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&gt; /htdocs/w3per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ndows binaries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include predefined configuration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y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gfile access is not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vascript tag to be inserted in your web pages can create logfiles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2485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pitals"/>
              </a:rPr>
              <a:t>Avoid installing the package on a running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 -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PM / Debia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 or Flydraw packag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a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the fly or flydraw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w3perl package in your www documen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install.p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paths according to your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I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Perl packag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install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administration interface to build a 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ptional third-party software : 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0:56:40Z</dcterms:created>
  <dc:creator>Laurent Domisse</dc:creator>
  <dc:description/>
  <cp:keywords>Logfile analyzer</cp:keywords>
  <dc:language>en-US</dc:language>
  <cp:lastModifiedBy>Terapix</cp:lastModifiedBy>
  <dcterms:modified xsi:type="dcterms:W3CDTF">2009-09-15T20:37:41Z</dcterms:modified>
  <cp:revision>215</cp:revision>
  <dc:subject/>
  <dc:title>W3Perl</dc:title>
</cp:coreProperties>
</file>